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73E-4D19-4E30-886A-A9CE7804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C4D-FC19-4FE0-99F6-1845C98F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91F-A1DA-4BBE-8677-5689A47B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357-A37A-4B65-9402-7B70B050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F76C-4F5B-487E-8889-D1EA8C29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451B-ED90-47E7-889F-53DA5E47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5B47-EB85-437B-8455-32A10C6B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9718-9A89-4A65-8F36-7DD36791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0C74-DB86-4FE3-8F06-CB08999E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05B6-4CCB-4789-95FA-FD89F9C5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6094-151B-479D-A861-C796B9CD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D08-8C06-461A-B2D2-0876CC9E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023F-7662-49F3-AF2E-EEABC4EF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47EE-2237-4C6F-A301-003250A2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EF3D-2612-48C5-8CF9-6DB34EA2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0D93-47BA-40C3-9622-B40EC1BC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5740-8728-4059-BC05-59DC9CE7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20A-A610-4874-A200-91A284D7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3E9-6946-414A-89BA-4A375E68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90B-0310-4511-A128-DAE4EBBD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4F8-CA24-45DE-AA4D-4804ACA5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C90-A41B-4BF8-9BC2-7ABA1E93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3DF-BC97-4A5C-90EF-B5F07E8A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B4E-529B-40E3-8C99-BBF473AE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</a:rPr>
              <a:t>Johanna BernselPierre Cho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0A97-278F-4189-945B-58596C4086BB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" name="Picture 2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6" name="Picture 2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</a:rPr>
              <a:t>Johanna Bern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51280" y="6244920"/>
            <a:ext cx="1451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8C3B-0261-49C9-AC22-7C2E65E1C0A9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circabc.europa.eu/w/browse/e1adf8de-0ad6-4484-84ec-80704391a038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biocides/" TargetMode="External"/><Relationship Id="rId2" Type="http://schemas.openxmlformats.org/officeDocument/2006/relationships/hyperlink" Target="https://circabc.europa.eu/w/browse/85cf24d4-e4d3-4b34-b59d-7a69394d0942" TargetMode="External"/><Relationship Id="rId3" Type="http://schemas.openxmlformats.org/officeDocument/2006/relationships/hyperlink" Target="http://echa.europa.eu/regulations/biocidal-products-regulation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3f"/>
                </a:solidFill>
                <a:latin typeface="Arial"/>
              </a:rPr>
              <a:t>The New Biocidal Products Regulation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3f"/>
                </a:solidFill>
                <a:latin typeface="Arial"/>
              </a:rPr>
              <a:t>Overview of the main principles and provisions</a:t>
            </a:r>
            <a:endParaRPr b="1" lang="en-US" sz="28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414612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06 October 2014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3f"/>
                </a:solidFill>
                <a:latin typeface="Arial"/>
              </a:rPr>
              <a:t>Meeting with Brazilian delegation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03280" y="5734080"/>
            <a:ext cx="640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Pierre Choraine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European Commission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DG Environment, Unit A.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proces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lication submitted to a Member Stat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ossier evaluated by this Member Stat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eer-review in the Biocidal Products Committe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CHA opinion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 decision approving the substa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uthorisation of biocidal product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45600" y="2520720"/>
            <a:ext cx="849636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n sequence or in parallel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90 days for Member States to agree between them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Unresolved disagreements referred to co-ordination group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mission to settle un-resolved disagreemen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fusal or adjustment possible on grounds of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protection of, e.g., environment or health, or 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absence of target organism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fusal or adjustment subject to agreement with applicant or Commission decis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5864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National authorisations and mutual recognition procedu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6C89-0973-4B35-B28F-AD012EFD40A2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826920" y="1014480"/>
            <a:ext cx="7490160" cy="56545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7A4A-E93C-4ADE-B5FD-CBC4E5E49435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340000" y="1916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3f"/>
                </a:solidFill>
                <a:latin typeface="Times New Roman"/>
              </a:rPr>
              <a:t>3900 products are now  authorised in accordance with the BP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1311-14AF-497F-AC3A-F9BE817E40E8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24000" y="1380960"/>
            <a:ext cx="8496000" cy="500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761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45600" y="2276280"/>
            <a:ext cx="849636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Objective: Facilitate access to the entire EU marke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valid across EU unless explicitly restricted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ducts with similar conditions of us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ot open to substances fulfilling the exclusion criteria, rodenticides or antifouling products (Article 42(1)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gressive phase-in period for workability until 1 January 2020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2D6C-6DAA-4A94-BABD-6AFC2C10D78E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hase-in period for reasons of workability for ECHA and COM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9/2013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products containing </a:t>
            </a: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new active substances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  and PTs 1,3, 4, 5,18 and 19;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1/2017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PTs 2, 6 and 13;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1/2020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the remaining PTs.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362800" cy="38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e-submission meet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lication submitted to ECHA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ossier evaluated by evaluating competent authority chosen by applican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valuation (12 months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eer-review by Biocidal Products Committee 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(6 months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CHA opinion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 decision allowing the placing on the market of the product on the entire Union marke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Costs and Data Sharing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3680" y="242064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s: Limit vertebrate testing, prevent competition distortion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Data from tests on vertebrate animal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ll tox- and eco-tox studies for existing active substances for alternative suppliers and their client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spective applicant and data owner must seek agreement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If negotiation fails, ECHA gives prospective applicant right to refer if every effort was made to reach agreement and a share of the costs incurred was paid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portionate share of the costs to be settled by national courts</a:t>
            </a:r>
            <a:r>
              <a:rPr b="0" lang="fr-BE" sz="2000" spc="-1" strike="noStrike">
                <a:solidFill>
                  <a:srgbClr val="00003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ensation for data sharing shall be determined in a fair, transparent and non-discriminatory manner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ndatory data shar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D0BE-E034-4729-8E45-B98CD9E1D005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Main princip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of biocidal produc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sts and data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mplementing legislation and guidance documen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reated</a:t>
            </a:r>
            <a:r>
              <a:rPr b="0" lang="fr-BE" sz="2400" spc="-1" strike="noStrike">
                <a:solidFill>
                  <a:srgbClr val="00003f"/>
                </a:solidFill>
                <a:latin typeface="Arial"/>
              </a:rPr>
              <a:t> artic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ndatory cost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s of 1 Sept. 2013, all active substance manufacturers or importers to submit a dossier or a letter of access to ECHA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ECHA to publish list of manufacturers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visional list available at: http://echa.europa.eu/information-on-chemicals/active-substance-supplie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Mandatory data and fair costs sharing to apply to all tox. and eco-tox. studies, including environmental fate and behaviour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Data protection until 31 Dec. 2025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products containing existing active substances of manufacturers not listed by ECHA shall not be placed on the market after 1 Sept. 2015.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Storage and use of existing stocks allowed until 1 Sept. 2016.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etent authorities to carry out official controls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echnical equivale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imilarity, as regards the chemical composition and hazard profile, of a substance produced either from a </a:t>
            </a:r>
            <a:r>
              <a:rPr b="0" lang="en-GB" sz="2400" spc="-1" strike="noStrike" u="sng">
                <a:solidFill>
                  <a:srgbClr val="00003f"/>
                </a:solidFill>
                <a:uFillTx/>
                <a:latin typeface="Arial"/>
              </a:rPr>
              <a:t>source different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 to the reference source, or from the reference source but following a </a:t>
            </a:r>
            <a:r>
              <a:rPr b="0" lang="en-GB" sz="2400" spc="-1" strike="noStrike" u="sng">
                <a:solidFill>
                  <a:srgbClr val="00003f"/>
                </a:solidFill>
                <a:uFillTx/>
                <a:latin typeface="Arial"/>
              </a:rPr>
              <a:t>change to the manufacturing process and/or manufacturing location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compared to the substance of the reference source in respect of which the initial risk assessment was carried out.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gency responsible for establishing technical equivalence (Article 54).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Implementing legislation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nd 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guidance document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5280" y="112536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3f"/>
                </a:solidFill>
                <a:latin typeface="Arial"/>
                <a:ea typeface="Arial Unicode MS"/>
              </a:rPr>
              <a:t>Implementing legisl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4000" y="1479600"/>
            <a:ext cx="84564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changes to product authorisation :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Reg. (EU) No 354/2013 of 18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 April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authorisation of same biocidal products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414/2013 of 6</a:t>
            </a:r>
            <a:r>
              <a:rPr b="0" lang="en-GB" sz="1600" spc="-1" strike="noStrike" baseline="33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May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fees to ECHA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564/2013 of 18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une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extension of duration of review programme to 2024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736/2013 of 17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May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modification on data requirements (proof of technical equivalence in BP applications)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837/2013 of 25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une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procedures for the inclusion of active substances into Annex I of the BPR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88/2014 of 31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st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anuary 201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procedures for the renewal of authorisations by mutual recognition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492/2014 of 7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 March 2014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organisation of the review programme of active substances (to replace Reg. (EU) 1451/2007)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adopted, entry into force expected by end October 201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388360" y="6453360"/>
            <a:ext cx="514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6E60-FD19-4EF0-B1D1-F8D0C874986D}" type="slidenum"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395280" y="112536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  <a:ea typeface="Arial Unicode MS"/>
              </a:rPr>
              <a:t>Commission guid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66680" y="1557360"/>
            <a:ext cx="8686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Work on guidance documents or proposals on various topics 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Management of nanomaterials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f2d79b34-2f5a-4bb4-97e8-b982c9def765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fees payable to Member States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b5c900a2-ef66-4a46-996d-00d5a29aee9a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similar conditions of use, for the Union authorisation 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b0f0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2ac21f0f-d790-4667-9358-1bcd0db0b35e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treated articles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e1adf8de-0ad6-4484-84ec-80704391a038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Document on comparative assessment 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d309607f-f75b-46e7-acc4-1653cadcaf7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Other Guidance under discussion :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Borderline between biocidal products and cosmetics 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6283ad7a-7416-4b83-a201-92ba58224222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etc.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8388360" y="6453360"/>
            <a:ext cx="514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F741-D81E-4B83-8BF4-A284B996056A}" type="slidenum"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Treated Articl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000" y="2708280"/>
            <a:ext cx="8496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Objective: Protection of health and environment, level playing field between production within vs outside of the EU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llowed on the market only if all the active substances are approved for the relevant us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Labelling requirement for certain artic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adiness to provide consumer inform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Control of articles treated with biocidal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9134-49CD-421D-87C2-FBF0C0B07BAB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F3C3-8D80-4EEA-98A6-B7BE623CC8C2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600360" cy="2695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3635280" y="3514680"/>
            <a:ext cx="45817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395280" y="12762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Definitions and scop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2F12-030C-4189-B217-379A36BF8F0C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5760" y="2708280"/>
            <a:ext cx="8496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Definition of "treated articles"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Substance, mixture or article, </a:t>
            </a:r>
            <a:r>
              <a:rPr b="0" i="1" lang="en-GB" sz="2000" spc="-1" strike="noStrike">
                <a:solidFill>
                  <a:srgbClr val="00003f"/>
                </a:solidFill>
                <a:latin typeface="Arial"/>
              </a:rPr>
              <a:t>i.e.,</a:t>
            </a: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 not only articles within the meaning of the REACH Regul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reated with or intentionally incorporating biocid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Excluded from the substantive ru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ntainer fumigation where no residues rema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ransitional ru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Substance/product-type combinations that have not yet been approved are allowed in treated articles if: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he substance/product-type combination is still in the review programme for existing active substance, or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n application for approval of the substance/product-type is submitted before 1 September 2016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2519280"/>
            <a:ext cx="806436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required prior to placing on the market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roval of biocidal active substances at EU level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ational product authorisation with mutual recogni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ndustry responsible for submitting data allowing evalu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ational rules apply during the programme for review of existing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79520" y="14382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in princip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E8F8-6733-42C3-867E-E2590597C044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395280" y="105264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Labelling requir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973160"/>
            <a:ext cx="82296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Labelling is required if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Claim is made regarding </a:t>
            </a:r>
            <a:r>
              <a:rPr b="0" lang="en-GB" sz="1900" spc="-1" strike="noStrike" u="sng">
                <a:solidFill>
                  <a:srgbClr val="00003f"/>
                </a:solidFill>
                <a:uFillTx/>
                <a:latin typeface="Arial"/>
              </a:rPr>
              <a:t>biocidal properties of the article</a:t>
            </a: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, or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Conditions of substance approval so requir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Information to be provided in the national languag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Statement that article incorporates biocide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Biocidal property of the articl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Name of all active substances and all nanomaterial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Instructions for use to protect man and environment, where appropriat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Instructions for use</a:t>
            </a: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, on any article where necessary to protect man or environment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Obligation for suppliers to give some information at the request of a consumer within 45 day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B17B-63B5-4F8C-97CB-3059D07AFDC1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reated articles considered biocidal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60360" y="2421000"/>
            <a:ext cx="82296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00003f"/>
                </a:solidFill>
                <a:latin typeface="Arial"/>
              </a:rPr>
              <a:t>Treated articles having 'primary biocidal function' (Article 3(1)(a)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function = the function of controlling harmful organisms by other than mere physical or mechanical a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treatment for preservation of the article itself ≠ biocidal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imary = of first rank or importance compared with another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ncept to be clarified on case-by-case basis (Article 3(3)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riteria to be taken into consideration: intended use, claim regarding the function, concentration of active subst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CB4F-3DA1-4783-A3D3-26A0C3441329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Issues open to interpre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95280" y="2421000"/>
            <a:ext cx="82296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Notion of primary biocidal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lex articles of which only parts have been tre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munication obligations further down the supply cha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Level of scrutiny of different uses of treated articles for the purpose of active substance approv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mission guidance on treated article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 u="sng">
                <a:solidFill>
                  <a:srgbClr val="693f00"/>
                </a:solidFill>
                <a:uFillTx/>
                <a:latin typeface="Arial"/>
                <a:hlinkClick r:id="rId1"/>
              </a:rPr>
              <a:t>https://circabc.europa.eu/w/browse/e1adf8de-0ad6-4484-84ec-80704391a03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4A76-AB2F-4447-8EF7-62C231DB4242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333360" y="1079640"/>
            <a:ext cx="8305920" cy="53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For further information: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Commission website  on biocides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1"/>
              </a:rPr>
              <a:t>http://ec.europa.eu/environment/biocides/</a:t>
            </a:r>
            <a:r>
              <a:rPr b="1" lang="en-GB" sz="1800" spc="-1" strike="noStrike" u="sng">
                <a:solidFill>
                  <a:srgbClr val="00003f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CIRCABC public space on biocides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2"/>
              </a:rPr>
              <a:t>https://circabc.europa.eu/w/browse/85cf24d4-e4d3-4b34-b59d-7a69394d0942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ECHA website &amp; Helpdesk on Biocides: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3"/>
              </a:rPr>
              <a:t>http://echa.europa.eu/regulations/biocidal-products-regulation</a:t>
            </a:r>
            <a:r>
              <a:rPr b="1" lang="en-GB" sz="1800" spc="-1" strike="noStrike" u="sng">
                <a:solidFill>
                  <a:srgbClr val="fafd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684360" y="1197000"/>
            <a:ext cx="820872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2B81-3CCB-4B64-A3F5-68A3AC2FE316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3680" y="2349000"/>
            <a:ext cx="8496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vide scientific and technical suppor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ordinate substance approval, Union authoris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ecretariat for BPC and the Coordination group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T platform (R4BP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lectronic submission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ata dissemin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ata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echnical equivale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List of (alternative) suppliers of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Helpdesk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he European Chemicals Agency (ECHA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A4FC-27E8-4BCA-800F-2F1A12669DB5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49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Hazard based exclusion criteria (Article 5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 : exclude active substances of very high concer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MR category 1A or 1B, PBT, vPvB, endocrine disrupto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he principle: cannot be approved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he derogation: approval possible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if exposure negligible, substance essential or non-approval has disproportionate negative impact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subject to risk mitigation measures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only for Member States where needed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for maximum 5 years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as candidate for substitution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34FC-29A4-4FAB-985E-10F2B4C78DB7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45600" y="2491920"/>
            <a:ext cx="849636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ubstitution criteria (Article 10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: Substitution of substances of high concer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riteria: Exclusion criteria, other properties of high concern (Art 10)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pproved for a maximum of 7 yea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arative assessment at product authorisatio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lternatives must present significantly lower risk, be sufficiently effective, present no significant disadvantage, and provide sufficient chemical diversity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ossible derogation for a maximum of 4 years in order to gain experience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CA87-928A-4CBE-95BD-62457481E4A7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Review programme for existing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 active substanc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24000" y="1014480"/>
            <a:ext cx="85500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5T12:23:40Z</dcterms:created>
  <dc:creator>Johanna Bernsel</dc:creator>
  <dc:description/>
  <dc:language>en-US</dc:language>
  <cp:lastModifiedBy>CHORAINE Pierre (ENV)</cp:lastModifiedBy>
  <cp:lastPrinted>2013-12-18T14:48:35Z</cp:lastPrinted>
  <dcterms:modified xsi:type="dcterms:W3CDTF">2014-10-09T11:26:03Z</dcterms:modified>
  <cp:revision>723</cp:revision>
  <dc:subject>Revision of the Biocides Directive</dc:subject>
  <dc:title>AT Conference Nov12</dc:title>
</cp:coreProperties>
</file>